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F0A7-6178-4868-B55B-8BE80606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7CF-F605-4C4B-9D8A-D85050D5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E36-1145-4F37-BFCB-24CD0634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F81-CEEC-48E5-B240-5FCDE2C3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06D-6A4E-452D-8DB2-934BA1E7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D3F-0F6D-4FCF-80D1-7A72A03B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372-1E7D-4EDD-BCBD-CE31D117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7C7-C25D-4672-B982-5F94F8C6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5E5-E1D2-4405-BD10-E020CC9F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B2E-6F3F-498C-889F-0DF5BC9F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1E4-BCEE-4578-B365-18F36B5B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6CAE-5E80-43A9-8B2F-21E661B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F7F2-B732-4760-A065-AF60C0B89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at are ortholo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True homology of molecular sequences, </a:t>
            </a: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 descended </a:t>
            </a: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in toto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 from the same ancestral seque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Orthologous sequences exist in only one copy per organism, and can accurately reflect the phylogenetic relationships of species (cf. paralogy, plerology, xenology)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www.science.uts.edu.au/sasb/glossary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06924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676520"/>
            <a:ext cx="8610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Species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 Number of Genes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Homolo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input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      grouped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      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sapi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2,5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722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6,4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muscu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3,8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676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7,7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norvegic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20,9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410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15,9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melanogaster      12,6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8,49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7,5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gambi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1,9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8,451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7,4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eleg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18,76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377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5,2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pomb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4,94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3,625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,3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.cerevisi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,8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3,613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3,1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cr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10,06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14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,0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.gris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11,10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6,325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6,0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thaliana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26,3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8,04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4,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falcipa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5,2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1,779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,5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200400" y="-6629400"/>
            <a:ext cx="15544800" cy="20104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6300720" cy="81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77384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identify orthologs??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.  “Near” Rel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40"/>
                </a:solidFill>
                <a:latin typeface="Arial"/>
              </a:rPr>
              <a:t>Sequence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Reciprocal Best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040"/>
                </a:solidFill>
                <a:latin typeface="Arial"/>
              </a:rPr>
              <a:t>Conserved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Within Syntenic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identify orthologs??</a:t>
            </a:r>
            <a:br>
              <a:rPr sz="3200"/>
            </a:br>
            <a:br>
              <a:rPr sz="32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.  “Far” Relativ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14240" y="2209680"/>
            <a:ext cx="47242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40"/>
                </a:solidFill>
                <a:latin typeface="Arial"/>
              </a:rPr>
              <a:t>Sequence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Reciprocal Best H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hy is it hard to identify orthologs?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Quality of Genome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have holes; ortholog to query sequence may live in one such h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have undetected </a:t>
            </a:r>
            <a:r>
              <a:rPr b="0" i="1" lang="en-US" sz="2000" spc="-1" strike="noStrike" u="sng">
                <a:solidFill>
                  <a:srgbClr val="800040"/>
                </a:solidFill>
                <a:uFillTx/>
                <a:latin typeface="Arial"/>
              </a:rPr>
              <a:t>mis</a:t>
            </a: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assemblies; ortholog tests may fail because there is apparently not a 1:1 mat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GS assemblies tend to collapse near-identical clus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8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Quality of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Ortholog of query sequence may not have been annotated (at all / correctl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8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Creating gene models in near-identical gene clusters can be challeng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lities of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pansion and contractions of repeated gene fami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ultiple transcripts per “gen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seudogenes vs. true 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058480" y="1905120"/>
            <a:ext cx="4685400" cy="3050280"/>
            <a:chOff x="2058480" y="1905120"/>
            <a:chExt cx="4685400" cy="3050280"/>
          </a:xfrm>
        </p:grpSpPr>
        <p:grpSp>
          <p:nvGrpSpPr>
            <p:cNvPr id="50" name=""/>
            <p:cNvGrpSpPr/>
            <p:nvPr/>
          </p:nvGrpSpPr>
          <p:grpSpPr>
            <a:xfrm>
              <a:off x="2058480" y="1905120"/>
              <a:ext cx="4685400" cy="2666520"/>
              <a:chOff x="2058480" y="1905120"/>
              <a:chExt cx="4685400" cy="266652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2286000" y="2438280"/>
                <a:ext cx="4266720" cy="2133360"/>
                <a:chOff x="2286000" y="2438280"/>
                <a:chExt cx="4266720" cy="21333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286000" y="2438280"/>
                  <a:ext cx="2133360" cy="2133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>
                  <a:off x="4419000" y="2438280"/>
                  <a:ext cx="2133720" cy="21333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962160" y="2438280"/>
                  <a:ext cx="1295640" cy="1295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" name=""/>
              <p:cNvSpPr/>
              <p:nvPr/>
            </p:nvSpPr>
            <p:spPr>
              <a:xfrm>
                <a:off x="205848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65868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325560" y="1905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191840" y="4495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905120" y="2286000"/>
            <a:ext cx="4267080" cy="2133360"/>
            <a:chOff x="1905120" y="2286000"/>
            <a:chExt cx="4267080" cy="2133360"/>
          </a:xfrm>
        </p:grpSpPr>
        <p:sp>
          <p:nvSpPr>
            <p:cNvPr id="60" name=""/>
            <p:cNvSpPr/>
            <p:nvPr/>
          </p:nvSpPr>
          <p:spPr>
            <a:xfrm>
              <a:off x="1905120" y="2286000"/>
              <a:ext cx="213372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038840" y="2286000"/>
              <a:ext cx="213336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81640" y="2286000"/>
              <a:ext cx="129528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048120" y="1752480"/>
            <a:ext cx="3831840" cy="2136240"/>
            <a:chOff x="3048120" y="1752480"/>
            <a:chExt cx="3831840" cy="2136240"/>
          </a:xfrm>
        </p:grpSpPr>
        <p:sp>
          <p:nvSpPr>
            <p:cNvPr id="64" name=""/>
            <p:cNvSpPr/>
            <p:nvPr/>
          </p:nvSpPr>
          <p:spPr>
            <a:xfrm>
              <a:off x="3048120" y="1752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15000" y="175248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53240" y="342900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601280" y="1752480"/>
            <a:ext cx="2628360" cy="3126600"/>
            <a:chOff x="1601280" y="1752480"/>
            <a:chExt cx="2628360" cy="3126600"/>
          </a:xfrm>
        </p:grpSpPr>
        <p:sp>
          <p:nvSpPr>
            <p:cNvPr id="68" name=""/>
            <p:cNvSpPr/>
            <p:nvPr/>
          </p:nvSpPr>
          <p:spPr>
            <a:xfrm>
              <a:off x="1601280" y="1752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11320" y="44193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486400" y="160020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666880" y="1600200"/>
            <a:ext cx="3222360" cy="2136240"/>
            <a:chOff x="2666880" y="1600200"/>
            <a:chExt cx="3222360" cy="2136240"/>
          </a:xfrm>
        </p:grpSpPr>
        <p:sp>
          <p:nvSpPr>
            <p:cNvPr id="72" name=""/>
            <p:cNvSpPr/>
            <p:nvPr/>
          </p:nvSpPr>
          <p:spPr>
            <a:xfrm>
              <a:off x="2666880" y="160020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3276720"/>
              <a:ext cx="116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40"/>
                  </a:solidFill>
                  <a:latin typeface="Arial"/>
                </a:rPr>
                <a:t>G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G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676520" y="2133720"/>
            <a:ext cx="4266720" cy="2133360"/>
            <a:chOff x="1676520" y="2133720"/>
            <a:chExt cx="4266720" cy="2133360"/>
          </a:xfrm>
        </p:grpSpPr>
        <p:sp>
          <p:nvSpPr>
            <p:cNvPr id="75" name=""/>
            <p:cNvSpPr/>
            <p:nvPr/>
          </p:nvSpPr>
          <p:spPr>
            <a:xfrm>
              <a:off x="1676520" y="2133720"/>
              <a:ext cx="213336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809520" y="2133720"/>
              <a:ext cx="2133720" cy="2133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2133720"/>
              <a:ext cx="129564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24280" y="2133720"/>
              <a:ext cx="60984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409000" y="2590920"/>
            <a:ext cx="17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160020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40"/>
                </a:solidFill>
                <a:latin typeface="Arial"/>
              </a:rPr>
              <a:t>G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449000" y="1600200"/>
            <a:ext cx="2551680" cy="3202920"/>
            <a:chOff x="1449000" y="1600200"/>
            <a:chExt cx="2551680" cy="3202920"/>
          </a:xfrm>
        </p:grpSpPr>
        <p:sp>
          <p:nvSpPr>
            <p:cNvPr id="82" name=""/>
            <p:cNvSpPr/>
            <p:nvPr/>
          </p:nvSpPr>
          <p:spPr>
            <a:xfrm>
              <a:off x="1449000" y="1600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82360" y="4343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should MODs represent orthology, similarity, paralogy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Each tub on its own bottom - do your own t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Encourages crea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No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Pool resources -  compute common set of simila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Some MOD group has to run the comp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Stalin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0004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40"/>
                </a:solidFill>
                <a:latin typeface="Arial"/>
              </a:rPr>
              <a:t>Ask multiple groups to periodically compute orthology relationships according to their own criteria on the latest snapshots of our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No attempt to annoint the “best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+ Can blame other groups who are doing th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804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40"/>
                </a:solidFill>
                <a:latin typeface="Arial"/>
              </a:rPr>
              <a:t>-  Limited by the approaches of outside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ow do we proce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40"/>
                </a:solidFill>
                <a:latin typeface="Arial"/>
              </a:rPr>
              <a:t>Supposing we adopt approaches 2 o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hat data set do we prov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All final transcripts and protei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Proteins onl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800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40"/>
                </a:solidFill>
                <a:latin typeface="Arial"/>
              </a:rPr>
              <a:t>All proteins or one per “gene”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Do we only represent best hits?  Gene families?  Oth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do we create robust reciprocal link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Which genomes do we comp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often do we recompute orthologies/similarit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00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40"/>
                </a:solidFill>
                <a:latin typeface="Arial"/>
              </a:rPr>
              <a:t>How do we keep all this in syn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3:29:29Z</dcterms:created>
  <dc:creator>William M. Gelbart</dc:creator>
  <dc:description/>
  <dc:language>en-US</dc:language>
  <cp:lastModifiedBy>William M. Gelbart</cp:lastModifiedBy>
  <dcterms:modified xsi:type="dcterms:W3CDTF">2004-04-28T14:15:21Z</dcterms:modified>
  <cp:revision>38</cp:revision>
  <dc:subject/>
  <dc:title>PowerPoint Presentation</dc:title>
</cp:coreProperties>
</file>